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Structure and Function</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essential to a person’s survival. It forms a barrier that helps prevent harmful microorganisms and chemicals from entering the body and it also prevents the loss of life-sustaining body fluids. It protects the vital structures-inside the body-from injury and from potentially damaging ultraviolet rays of the sun. the skin also helps regulate body temperature, excretes some waste products and is an important sensory organ. It contains various types of specialized nerve cells responsible for the sense of touc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the body’s largest organ- that of an average adult male weighs 4,5 to 5 kg and measures about 2 sq. m in area.</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l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ut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s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ere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sk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made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pidermis and the derm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found below the derm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keratinocytes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ells produce melan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Langerhans cells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ynthesizes the production of vitamin D in the sk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iloerec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prevents harmful organisms from entering the body.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not the body’s largest organ.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pidermis is a protective layer of the skin.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ement membrane connects the epidermis and the dermi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cutaneous layer is situated below the epidermi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cytes make about 90 percent of the cells in the epidermis. T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in gives colour to the skin and protects it from the sun’s ultraviolet ray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kin colour result from differences in the number of melanocyte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erhans cells help cells of the immune system recognize potentially dangerous microorganisms and chemicals.                T  F</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from doing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ecial quality that belongs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e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fferently colored part of a surf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nouns to the following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l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c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func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layer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cond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06T22:41:09Z</dcterms:modified>
  <cp:revision>33</cp:revision>
  <dc:subject/>
  <dc:title>Slide 1</dc:title>
</cp:coreProperties>
</file>